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gif" ContentType="image/gif"/>
  <Override PartName="/ppt/media/image18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352-DF22-4940-B48C-8BD049E4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9DD-4286-4B5E-935D-E37FB2E2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AA7-31CC-4A2A-B362-EAC0EDA1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E65-31F4-44D1-BA1D-7B83F696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3BB-6D1D-4059-B55A-30C66F90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3FB7-4DDC-41FF-8A60-CD0AB88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CD8-72A0-46D5-B23D-0AC0C0DD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570-3110-4331-B5A1-212226E5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3909-6840-499C-BBC9-3BB8305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0191-E843-41F6-966B-5B3C83FC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E8B8-96BB-4326-B6D7-0D8C804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135-54DB-48D5-BA4F-5EAB9283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739-ABC0-4220-BF6F-94AEC64F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94D9-B8BE-4134-8B6D-D2DBF50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4DC8-0D03-420F-B720-FA9DBAB6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F338-7E25-44EF-BDE1-C65DED20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1CF-1F33-4DD0-A3FF-36840450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D0A-E2D5-468A-8D33-F33F763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D9B-4AC5-4E02-B46F-6A763371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D84-3C64-44FB-ACEB-508F639B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57B-2979-49BB-9342-F9BFDEDD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F70-06B5-433C-86FE-B325433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F6D-2508-4BD7-8DC5-12EAF9C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510-CC84-466F-861C-F659A89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357C-795D-4B2F-AFA2-2D8EA22536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FEF1-6154-480C-ACA2-56196599C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o Laugh or Not to Laugh:</a:t>
            </a:r>
            <a:br>
              <a:rPr sz="6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people perceive humor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lly Rudd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057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experien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sition of values/political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276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of the Jo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e like to hear about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hat we know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5480" y="2286000"/>
            <a:ext cx="248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ote a script for perform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ganized a comedy show with other students from a theater cla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llabor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o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redi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u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i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mi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2703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enturing out of my comfort zo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eking help from oth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nking thematical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’ve Learn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[This class wasn’t totally useless]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’s not that some people are funny and some are n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ryone can have a humorous perspective in their own righ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3657600"/>
            <a:ext cx="198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a evolving life skill and communication tool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733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ly Connolly”. Online image. 28 Feb 2009.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2YearsinKiwiLandBlo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2yearsinkiwiland.blogspot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ley, Julie. “Hostile Aggressive Parent”. Online image. 13 Jun. 2007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tepparentAdoptionBlog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9 May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stepparent.adoptionblogs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ar”. Online image. 2008.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SivaramaSwami.com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. 19 May 2009. &lt;http://sivaramaswami.com&gt;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die Izzard. “Evil Giraffe”. Online video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Youtub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May 2009. &lt;http://youtube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die Izzard”. Online image. 7 Aug. 2008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InstantRiverside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&lt;http://instantriverside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ny Fruit”. Online image. 1 May 2009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uchInaPotatoBlo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.&lt;http://4.bp.blogspot.com/.../s400/noname11.jpg&gt;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uhlman, Thomas L. “A Study of Salience and Motivational Theories of Humor”.Journal of Personality and Socia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y. 1985: 281-286.EbscoPyschArticles. Springfield Township HS Lib. 26 Feb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.&lt;http://ebscopyscharticles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gher”. Online image. 13 Oct. 2008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GrannySmithGreen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9 May 2009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gyork.co.uk/images/laughter.jp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cGhee, Paul E. “A Developmental Test of the Dispositional Theory of Humor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hild Development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ep. 1981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25-931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pringfield Township HS Lib. 3 Mar. 2009. &lt;http://jstor.org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bbs, Dean. “Personality Predicts Activity in Reward and Emotional Regions Associated with Humor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Academy of Scienc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8 Nov. 2005:16502-16506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Springfield Township HS Lib. 3 Mar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.&lt;http://jstor.org&gt;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’Brien, Mike ed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Best British Stand-Up and Comedy Routine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New York, NY: Carroll &amp; Graf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shers, 200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”. Online image. 11 Dec. 2003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epmf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&lt;http://lepfmi.gsfc.nasa.gov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e, Robert R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ughter: A Scientific Investigation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New York, NY: Penguin Putnam Inc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cky Gervais”. Online image. 2007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FilmWad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 May 2009. &lt;http://filmwad.co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ford, Stephanie. “Adolescent Humor During Peer Interaction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ocial Psychology Association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. 1984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5-243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merican Sociological Association.Springfield Township HS Lib. 3 Mar. 2009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jstor.or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ulman, Polly. “Crack Me Up: Breaking the Humor Code”. Pyschology Today. July/August 2006. 69-7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son, Glenn D. “Ideology and Humor Preferences”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International Political Science Review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t. 1990: 461-472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JSTO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age Publications, Ltd. Springfield Township HS Lib. 3 Mar. 2009. &lt;http://jstor.or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ld Flags”. Online image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agma-amgm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9 May 2009. &lt;http://magma-amgm.org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Pictures Are From Clip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Know What It Looks Like…</a:t>
            </a:r>
            <a:br>
              <a:rPr sz="36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ut What is Humor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44792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munication tool with many positive and negative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54100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187308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2438280" cy="144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218360" y="2362320"/>
            <a:ext cx="19256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400800" y="33526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Sense of Hum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828800"/>
            <a:ext cx="8153280" cy="4038480"/>
            <a:chOff x="533520" y="1828800"/>
            <a:chExt cx="8153280" cy="4038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81532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533520" y="1828800"/>
              <a:ext cx="8153280" cy="403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die Izzard “Evil Giraff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hind the Laugh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mor is not universal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factors effect percep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257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920" y="220932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troversion vs. Introvers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ggressiven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lf-depre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337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19:27Z</dcterms:created>
  <dc:creator>097069hss</dc:creator>
  <dc:description/>
  <dc:language>en-US</dc:language>
  <cp:lastModifiedBy>Molly Ruddell</cp:lastModifiedBy>
  <dcterms:modified xsi:type="dcterms:W3CDTF">2009-05-20T00:09:46Z</dcterms:modified>
  <cp:revision>112</cp:revision>
  <dc:subject/>
  <dc:title>Title</dc:title>
</cp:coreProperties>
</file>